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0B7-E51C-4849-8F00-3889191A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DBE-B232-44C8-963E-AE340B52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FBE-1604-47CF-A111-B139A69A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27B-56F1-40DD-BC54-BD3307C1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164-045D-430F-85B0-BDB4CE2E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210B-B289-4CC7-845D-E38181AD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537-B538-4449-ABD9-EA8BBE5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26E5-8903-428B-9294-B678939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B61D-3E91-4C3E-9054-C4C0D12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DD27-40A0-4286-9228-2A1C35A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E9BF-882B-4596-B133-A99FE4C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ECA-B879-4A2E-B63F-8ECCCD9C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46C1-1C9B-4EF3-A465-152A8AC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8AAE-4E83-4796-85A7-5C27F1E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72A-9BAF-4078-80B3-04F50E17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1C8-34AB-4DAF-81EF-624263E0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B9D-4469-47F7-9765-8D682ED7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CB53-A20C-4DBF-9353-CE6DEE32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47B7-58CA-4E88-A8AA-E10C34A3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B8B0-7265-4DE7-863D-5CA6BA05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031D-38BC-4613-B6BD-DE56DB0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3B65-4CB6-4896-AFE0-051FB0D9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18C-EC14-4812-85BF-AAC3F85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B431-8A8B-4B0D-88BD-54DB801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71C3-39AF-45A6-87EF-B338972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ACEE-326B-45B7-A9EB-1DCF4D1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68F8-C550-4D9B-B80D-5DD15277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D571-E817-4E59-9ED1-7F90247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44AD-ADB4-4EE6-A64F-4BB4E9CE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9CA6-65C3-407D-B7CA-D52635D5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5492-CA8F-4E5E-8039-E12DFC40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11CB-38FA-48DF-B5A3-83B0CE28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6BDB-16F2-4EA2-A106-800E4F78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F31-BAE2-4068-AA30-E6B4270C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5AB1-80B8-43F6-97C7-8E39154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5825-35E2-4ACD-A456-C536B09E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39D5-1970-40E1-9733-36E7C32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841C-E2DE-4F77-83B6-1E2BA6A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C944-92C6-4F15-80AA-323A485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91D0-A6FD-4E64-A834-356D6EEE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0F55-2A5B-4F07-832C-3507E0D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512F-65A8-4DB8-92D8-8795703B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A3FE-CF85-4F9E-95FB-A1C26963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ACED-96D6-44FB-9136-7A4B298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BB1-803A-4190-BDFE-211B48FF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AFA8-10C0-498E-8913-30B112F5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EE99-425C-4563-AA89-785272A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EF71-D38C-48A0-8A7E-E399D7E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B965-F14B-4063-9E95-7CD46E5F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ED07-C806-4B4E-8863-D15C220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511A-A1D9-4030-914B-C524D42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95AB-DF6B-4BE1-90FD-9771D0E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4786-DD11-4820-A0E1-BC7D912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E686-4349-4225-91F9-63CFA5D1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91C7-AC52-4939-9001-509EF16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AF1-1FDA-421F-B39C-32232BA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09FF6-E1CB-4075-A760-46B2CDF9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DA7-1AD0-4AB8-865B-682A78C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CB6-A7C3-4A74-99DB-A31EA8B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85D-6E3C-4DA0-BEDB-07B753C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2B2E-2862-4676-A316-BE9BF66E637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A80-7B59-47A6-A8DC-75EFBE2C256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982-EB58-4828-B7B8-0973543CA52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5C9B-051B-4E15-A353-B362E2D28C9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277-F606-4659-A67C-85F936D9FD1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07920" y="603360"/>
            <a:ext cx="8205840" cy="232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(pages 310-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By: Daphne G. &amp; Jackson 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C:\Users\Student\AppData\Local\Microsoft\Windows\Temporary Internet Files\Content.IE5\E9I7LO7Z\MC900048311[1].wmf"/>
          <p:cNvPicPr/>
          <p:nvPr/>
        </p:nvPicPr>
        <p:blipFill>
          <a:blip r:embed="rId2"/>
          <a:stretch/>
        </p:blipFill>
        <p:spPr>
          <a:xfrm rot="5400000">
            <a:off x="3450960" y="2340000"/>
            <a:ext cx="16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Content Placeholder 2"/>
          <p:cNvGrpSpPr/>
          <p:nvPr/>
        </p:nvGrpSpPr>
        <p:grpSpPr>
          <a:xfrm>
            <a:off x="353880" y="1517760"/>
            <a:ext cx="7412040" cy="5029200"/>
            <a:chOff x="353880" y="1517760"/>
            <a:chExt cx="7412040" cy="5029200"/>
          </a:xfrm>
        </p:grpSpPr>
        <p:pic>
          <p:nvPicPr>
            <p:cNvPr id="22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1517760"/>
              <a:ext cx="74120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iner Hand ITC"/>
                  <a:ea typeface="Browallia New"/>
                </a:rPr>
                <a:t>Mongols were herders, skilled horse riders, and fierce warriors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iner Hand ITC"/>
                </a:rPr>
                <a:t>Mongols lived in small clans. The clans fought for grazing land, water, and fire wood, which was scarce in the Asian steppe region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Sometimes a strong leader or khan would bring enemy clans together.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United clans became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With these large clans the Mongols conquered much of Asia and part of Europ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48290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Content Placeholder 2"/>
          <p:cNvGrpSpPr/>
          <p:nvPr/>
        </p:nvGrpSpPr>
        <p:grpSpPr>
          <a:xfrm>
            <a:off x="371520" y="1060560"/>
            <a:ext cx="7394400" cy="5664240"/>
            <a:chOff x="371520" y="1060560"/>
            <a:chExt cx="7394400" cy="566424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71520" y="1060560"/>
              <a:ext cx="739440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143000"/>
              <a:ext cx="7238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he khan Temujin was know for his cruelty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emujin made himself  leader of all the clans in 1206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changed his name to  Genghis  Khan or World Leader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had an army of about 1300 riders that came down from Mongolia into northern China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destroyed cities in his path to Beijing that he  later named it Khanbalik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China had been conquered for the first time by the Mongolians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On his death bed in 1227, Genghis Khan told his sons “A deed is not glorious until it is finished.”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146160" y="-19080"/>
            <a:ext cx="51642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Content Placeholder 2"/>
          <p:cNvGrpSpPr/>
          <p:nvPr/>
        </p:nvGrpSpPr>
        <p:grpSpPr>
          <a:xfrm>
            <a:off x="360360" y="1523880"/>
            <a:ext cx="7491240" cy="5023080"/>
            <a:chOff x="360360" y="1523880"/>
            <a:chExt cx="7491240" cy="5023080"/>
          </a:xfrm>
        </p:grpSpPr>
        <p:pic>
          <p:nvPicPr>
            <p:cNvPr id="23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0360" y="1523880"/>
              <a:ext cx="749124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atu was one of Genghis Khan’s grandson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e led armies into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is armies killed many people, and kept some as slaves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y about 1260, the Mongols had created the largest empire the world has ever known and it covered most of Asia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28520" y="285840"/>
            <a:ext cx="2297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3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 was a grandson of Genghis Khan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became the leader of the Mongol empire in 1260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sent soldiers throughout the empire to help bring peac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Under Kublai Khan’s reign merchants felt safe to travel the trade rout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’s empire started major trading throughout east and west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 What did Mongols fight for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United clans became what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What does Genghis Khan mean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Where did Batu lead his armies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Why did Kublai Khan send out his soldiers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281160" y="285840"/>
            <a:ext cx="2309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4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Grazing land, water, and fire wood. 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It means “ World Leader”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Into 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To help bring peace to the empir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3Z</dcterms:created>
  <dc:creator>Student</dc:creator>
  <dc:description/>
  <dc:language>en-US</dc:language>
  <cp:lastModifiedBy>Student</cp:lastModifiedBy>
  <dcterms:modified xsi:type="dcterms:W3CDTF">2010-10-25T14:22:51Z</dcterms:modified>
  <cp:revision>19</cp:revision>
  <dc:subject/>
  <dc:title>Mongol Empire</dc:title>
</cp:coreProperties>
</file>