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C3F5-41B5-4FAE-A8ED-8152C9D7E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14D8-69BE-408F-B0A6-D5EC074C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BB71-B323-4732-B260-90DED0595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DAA2-DA85-480B-BB05-A6EAC01A4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51605-4819-4282-80A0-DFDBA2378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E737C-6D13-43C0-83F7-F6D6774CE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B442A-A1D3-4A77-A764-D152A895C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42B26-9940-4CCF-8C56-8CE2BB650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C1D3D-EE64-48FB-AE26-7E1FA3DFF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F3414-BC61-499B-A032-8F3ED717B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8848F-C770-42B1-87E9-F4DABD6D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7FEC-AED1-4C8D-854A-B93E829AB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F53C2-33DA-4A3D-8243-5E4AE8C5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79A13-F433-4D59-B1A4-5AC74767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CA76C-62FA-4776-9D45-678761707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E5852-0589-400D-8A47-1058FA4B2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E7B21-D449-4E35-8B17-A3A0EEE97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865C5-B5F5-4562-A360-D35307E96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82E6C-A8E2-44E4-87A3-90FB7B705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3448C-DC8D-4767-BB94-5E49D82D0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E33BA-D968-4548-8FCA-C998B7C0C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488E4-C1A8-4042-89EF-1CB1EF7A8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8225-ABD8-4154-881F-07E6B2E87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AA257-458B-453F-ABDC-8072BE9FD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DA224-57C5-444B-A36B-062F66F9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FCBC5-8456-4D9E-8918-42349571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D3ED4-A289-4C1A-BAF0-90BBBB60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3214A-C423-4DF9-9487-1131958A1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8DDA8-EA26-4748-B9C0-A758E80CE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78A92-9718-4ED6-8E40-800C42681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A4617-40C7-4FC5-91AE-3D835217C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972DE-FA2C-462D-BF52-AD488AF39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39C6A-2AAB-49BB-AE7E-944415716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7E97-6089-4183-951C-E326A161A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9F0AD-9C90-4AE3-B516-34C2E0CFB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475D9-ECC8-4F4C-AE86-A1E67D709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11943-9550-4743-BA42-E2176E61C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22D3F-CFBC-4630-86DC-55585FFE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2EB31-0959-4EC5-A54D-057A018C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9D500-28B9-4FB3-8274-F0F03263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2630B-E2A4-4C6B-A8AC-9D839FA85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4E651-39D6-42CD-A59E-157986E9F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7150D-F994-40D3-A104-0BC5D2A35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4F6D4-1B72-4882-9447-9EEFB9543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9544-0CD2-4D87-9C15-1E2E8703E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B0D40-E837-499C-BD6D-F7660DA66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FFC18-4FEB-426B-B01B-F83316CA1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DEF07-6461-49EC-B94E-9F086BDBB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70B7E-A998-4381-8567-473A56977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666F8-BC11-4AF9-9D70-AD1EB3E48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78FDA-CFC6-45B8-A573-A08FFA51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2A3DF-D8F0-4750-A79B-99DF2098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3FF10-1883-45FA-8EE8-257AF581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3EF21-36AE-4380-B7D6-D321F3D55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B5DA4-783F-4C6A-97EE-D8099BCB5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609E-898A-49A1-A579-CA5C8A0A8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BA729-C0C0-4D85-A03D-9BE01FA9F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0751-9D97-4D31-B60B-7CB39C8D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889C-6DE3-4713-A2BA-3162C84F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0B9F-2F87-4698-B42C-CD62EF53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5DED4-5166-4468-8D85-4CFF48494F5C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E62E3-11B5-44D6-983E-D8346621A10B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56915-A0AE-4BA4-80A1-CDD2BA791635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D8EC8-4179-4184-A07C-B725F3328A47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213D8-9906-4443-8C31-44EFBC3B07EB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907920" y="603360"/>
            <a:ext cx="8205840" cy="232236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371600" y="243828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radley Hand ITC"/>
              </a:rPr>
              <a:t>(pages 310-311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radley Hand ITC"/>
              </a:rPr>
              <a:t>By: Daphne G. &amp; Jackson E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2" name="Picture 7" descr="C:\Users\Student\AppData\Local\Microsoft\Windows\Temporary Internet Files\Content.IE5\E9I7LO7Z\MC900048311[1].wmf"/>
          <p:cNvPicPr/>
          <p:nvPr/>
        </p:nvPicPr>
        <p:blipFill>
          <a:blip r:embed="rId2"/>
          <a:stretch/>
        </p:blipFill>
        <p:spPr>
          <a:xfrm rot="5400000">
            <a:off x="3450960" y="2340000"/>
            <a:ext cx="1600200" cy="16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Content Placeholder 2"/>
          <p:cNvGrpSpPr/>
          <p:nvPr/>
        </p:nvGrpSpPr>
        <p:grpSpPr>
          <a:xfrm>
            <a:off x="353880" y="1517760"/>
            <a:ext cx="7412040" cy="5029200"/>
            <a:chOff x="353880" y="1517760"/>
            <a:chExt cx="7412040" cy="5029200"/>
          </a:xfrm>
        </p:grpSpPr>
        <p:pic>
          <p:nvPicPr>
            <p:cNvPr id="224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353880" y="1517760"/>
              <a:ext cx="741204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457200" y="1609560"/>
              <a:ext cx="7238880" cy="48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iner Hand ITC"/>
                  <a:ea typeface="Browallia New"/>
                </a:rPr>
                <a:t>Mongols were herders, skilled horse riders, and fierce warriors.</a:t>
              </a:r>
              <a:endParaRPr b="0" lang="en-US" sz="28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iner Hand ITC"/>
                </a:rPr>
                <a:t>Mongols lived in small clans. The clans fought for grazing land, water, and fire wood, which was scarce in the Asian steppe region.</a:t>
              </a: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iner Hand ITC"/>
                  <a:ea typeface="DFKai-SB"/>
                </a:rPr>
                <a:t>Sometimes a strong leader or khan would bring enemy clans together. 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iner Hand ITC"/>
                  <a:ea typeface="DFKai-SB"/>
                </a:rPr>
                <a:t>United clans became very strong fighting forces.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iner Hand ITC"/>
                  <a:ea typeface="DFKai-SB"/>
                </a:rPr>
                <a:t>With these large clans the Mongols conquered much of Asia and part of Europe.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226" name="Rectangle 3" descr=""/>
          <p:cNvPicPr/>
          <p:nvPr/>
        </p:nvPicPr>
        <p:blipFill>
          <a:blip r:embed="rId2"/>
          <a:stretch/>
        </p:blipFill>
        <p:spPr>
          <a:xfrm>
            <a:off x="139680" y="285840"/>
            <a:ext cx="482904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Content Placeholder 2"/>
          <p:cNvGrpSpPr/>
          <p:nvPr/>
        </p:nvGrpSpPr>
        <p:grpSpPr>
          <a:xfrm>
            <a:off x="371520" y="1060560"/>
            <a:ext cx="7394400" cy="5664240"/>
            <a:chOff x="371520" y="1060560"/>
            <a:chExt cx="7394400" cy="5664240"/>
          </a:xfrm>
        </p:grpSpPr>
        <p:pic>
          <p:nvPicPr>
            <p:cNvPr id="228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371520" y="1060560"/>
              <a:ext cx="7394400" cy="56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457200" y="1143000"/>
              <a:ext cx="723888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radley Hand ITC"/>
                </a:rPr>
                <a:t>The khan Temujin was know for his cruelty.</a:t>
              </a: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radley Hand ITC"/>
                </a:rPr>
                <a:t>Temujin made himself  leader of all the clans in 1206.</a:t>
              </a: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radley Hand ITC"/>
                </a:rPr>
                <a:t>He changed his name to  Genghis  Khan or World Leader.</a:t>
              </a: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radley Hand ITC"/>
                </a:rPr>
                <a:t>He had an army of about 1300 riders that came down from Mongolia into northern China.</a:t>
              </a: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radley Hand ITC"/>
                </a:rPr>
                <a:t>He destroyed cities in his path to Beijing that he  later named it Khanbalik.</a:t>
              </a: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radley Hand ITC"/>
                </a:rPr>
                <a:t>China had been conquered for the first time by the Mongolians.</a:t>
              </a: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radley Hand ITC"/>
                </a:rPr>
                <a:t>On his death bed in 1227, Genghis Khan told his sons “A deed is not glorious until it is finished.”</a:t>
              </a: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230" name="Rectangle 3" descr=""/>
          <p:cNvPicPr/>
          <p:nvPr/>
        </p:nvPicPr>
        <p:blipFill>
          <a:blip r:embed="rId2"/>
          <a:stretch/>
        </p:blipFill>
        <p:spPr>
          <a:xfrm>
            <a:off x="146160" y="-19080"/>
            <a:ext cx="516420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Content Placeholder 2"/>
          <p:cNvGrpSpPr/>
          <p:nvPr/>
        </p:nvGrpSpPr>
        <p:grpSpPr>
          <a:xfrm>
            <a:off x="360360" y="1523880"/>
            <a:ext cx="7491240" cy="5023080"/>
            <a:chOff x="360360" y="1523880"/>
            <a:chExt cx="7491240" cy="5023080"/>
          </a:xfrm>
        </p:grpSpPr>
        <p:pic>
          <p:nvPicPr>
            <p:cNvPr id="232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360360" y="1523880"/>
              <a:ext cx="7491240" cy="502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457200" y="1609560"/>
              <a:ext cx="7238880" cy="48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iner Hand ITC"/>
                </a:rPr>
                <a:t>Batu was one of Genghis Khan’s grandsons.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iner Hand ITC"/>
                </a:rPr>
                <a:t>He led armies into Europe, Russia, Poland, and Hungary.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iner Hand ITC"/>
                </a:rPr>
                <a:t>His armies killed many people, and kept some as slaves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iner Hand ITC"/>
                </a:rPr>
                <a:t>By about 1260, the Mongols had created the largest empire the world has ever known and it covered most of Asia.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234" name="Rectangle 3" descr=""/>
          <p:cNvPicPr/>
          <p:nvPr/>
        </p:nvPicPr>
        <p:blipFill>
          <a:blip r:embed="rId2"/>
          <a:stretch/>
        </p:blipFill>
        <p:spPr>
          <a:xfrm>
            <a:off x="128520" y="285840"/>
            <a:ext cx="229716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grpSp>
        <p:nvGrpSpPr>
          <p:cNvPr id="236" name="Content Placeholder 2"/>
          <p:cNvGrpSpPr/>
          <p:nvPr/>
        </p:nvGrpSpPr>
        <p:grpSpPr>
          <a:xfrm>
            <a:off x="450720" y="1603440"/>
            <a:ext cx="7255080" cy="4857840"/>
            <a:chOff x="450720" y="1603440"/>
            <a:chExt cx="7255080" cy="4857840"/>
          </a:xfrm>
        </p:grpSpPr>
        <p:pic>
          <p:nvPicPr>
            <p:cNvPr id="237" name="Content Placeholder 2" descr=""/>
            <p:cNvPicPr/>
            <p:nvPr/>
          </p:nvPicPr>
          <p:blipFill>
            <a:blip r:embed="rId2"/>
            <a:stretch/>
          </p:blipFill>
          <p:spPr>
            <a:xfrm>
              <a:off x="450720" y="1603440"/>
              <a:ext cx="7255080" cy="485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457200" y="1609560"/>
              <a:ext cx="7238880" cy="48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Bradley Hand ITC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Bradley Hand ITC"/>
                </a:rPr>
                <a:t>Kublai Khan was a grandson of Genghis Khan.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Bradley Hand ITC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Bradley Hand ITC"/>
                </a:rPr>
                <a:t>He became the leader of the Mongol empire in 1260.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Bradley Hand ITC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Bradley Hand ITC"/>
                </a:rPr>
                <a:t>He sent soldiers throughout the empire to help bring peace.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Bradley Hand ITC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Bradley Hand ITC"/>
                </a:rPr>
                <a:t>Under Kublai Khan’s reign merchants felt safe to travel the trade routes.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Bradley Hand ITC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Bradley Hand ITC"/>
                </a:rPr>
                <a:t>Kublai Khan’s empire started major trading throughout east and west.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Content Placeholder 2"/>
          <p:cNvGrpSpPr/>
          <p:nvPr/>
        </p:nvGrpSpPr>
        <p:grpSpPr>
          <a:xfrm>
            <a:off x="450720" y="1603440"/>
            <a:ext cx="7255080" cy="4857840"/>
            <a:chOff x="450720" y="1603440"/>
            <a:chExt cx="7255080" cy="4857840"/>
          </a:xfrm>
        </p:grpSpPr>
        <p:pic>
          <p:nvPicPr>
            <p:cNvPr id="240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450720" y="1603440"/>
              <a:ext cx="7255080" cy="485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457200" y="1609560"/>
              <a:ext cx="7238880" cy="48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14440" indent="-5144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Bradley Hand ITC"/>
                </a:rPr>
                <a:t>1. What did Mongols fight for? 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514440" indent="-5144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Bradley Hand ITC"/>
                </a:rPr>
                <a:t>2.United clans became what?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514440" indent="-5144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Bradley Hand ITC"/>
                </a:rPr>
                <a:t>3.What does Genghis Khan mean?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514440" indent="-5144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Bradley Hand ITC"/>
                </a:rPr>
                <a:t>4. Where did Batu lead his armies?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514440" indent="-5144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Bradley Hand ITC"/>
                </a:rPr>
                <a:t>5. Why did Kublai Khan send out his soldiers? 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242" name="Rectangle 3" descr=""/>
          <p:cNvPicPr/>
          <p:nvPr/>
        </p:nvPicPr>
        <p:blipFill>
          <a:blip r:embed="rId2"/>
          <a:stretch/>
        </p:blipFill>
        <p:spPr>
          <a:xfrm>
            <a:off x="281160" y="285840"/>
            <a:ext cx="230976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grpSp>
        <p:nvGrpSpPr>
          <p:cNvPr id="244" name="Content Placeholder 2"/>
          <p:cNvGrpSpPr/>
          <p:nvPr/>
        </p:nvGrpSpPr>
        <p:grpSpPr>
          <a:xfrm>
            <a:off x="450720" y="1603440"/>
            <a:ext cx="7255080" cy="4857840"/>
            <a:chOff x="450720" y="1603440"/>
            <a:chExt cx="7255080" cy="4857840"/>
          </a:xfrm>
        </p:grpSpPr>
        <p:pic>
          <p:nvPicPr>
            <p:cNvPr id="245" name="Content Placeholder 2" descr=""/>
            <p:cNvPicPr/>
            <p:nvPr/>
          </p:nvPicPr>
          <p:blipFill>
            <a:blip r:embed="rId2"/>
            <a:stretch/>
          </p:blipFill>
          <p:spPr>
            <a:xfrm>
              <a:off x="450720" y="1603440"/>
              <a:ext cx="7255080" cy="485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457200" y="1609560"/>
              <a:ext cx="7238880" cy="48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14440" indent="-5144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Bradley Hand ITC"/>
                </a:rPr>
                <a:t>1.Grazing land, water, and fire wood.  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514440" indent="-5144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Bradley Hand ITC"/>
                </a:rPr>
                <a:t>2. Very strong fighting forces.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514440" indent="-5144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Bradley Hand ITC"/>
                </a:rPr>
                <a:t>3.It means “ World Leader”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514440" indent="-5144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Bradley Hand ITC"/>
                </a:rPr>
                <a:t>4. Into  Europe, Russia, Poland, and Hungary.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514440" indent="-5144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Bradley Hand ITC"/>
                </a:rPr>
                <a:t>5. To help bring peace to the empire.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4:53:33Z</dcterms:created>
  <dc:creator>Student</dc:creator>
  <dc:description/>
  <dc:language>en-US</dc:language>
  <cp:lastModifiedBy>Student</cp:lastModifiedBy>
  <dcterms:modified xsi:type="dcterms:W3CDTF">2010-10-25T14:22:51Z</dcterms:modified>
  <cp:revision>19</cp:revision>
  <dc:subject/>
  <dc:title>Mongol Empire</dc:title>
</cp:coreProperties>
</file>