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183-7FE7-48BD-B1CE-1F80964A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F74-6145-48B9-8C0D-A3617288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B45-A97C-445B-9B55-6B6E4502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6AD-D319-46A5-8C98-9E9800F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7474-951F-4795-9858-72329C46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548E-E7AF-4042-A914-51335AEF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6021-4377-45D8-946B-D9251835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B374-DAB2-4762-8B03-7D2AA9E1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A5AB-E6D5-4AE4-BAA8-B27DC21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84B3-A76A-4C47-B7EA-D81AA068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CBCD-F9C6-468D-BD0A-3F5B723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839-A38C-4FC3-A7C9-43B40150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B1DC-F139-43C9-AD9D-B94CCD25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0A51-DF2C-4E9E-B123-A54E9296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D213-6047-4E57-A072-56E3D1B8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29C8-3633-402F-8E7D-8825E404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4D8C-FCA1-4A31-B4C2-40BF3A94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99FB-082F-4094-A328-42E435B7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DA83-F865-4DD6-B3C7-2A2688C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F559-A47F-415A-A613-34F8AE9E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597F-E257-42B6-8815-F2F8130F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2B41-D4BC-4910-85C8-C45AEB91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41D-90F0-4BF8-A3D5-3443C59B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9C72-43FF-4FD0-8288-1705A28D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5AFD-FED6-4131-A8CE-9E7B996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9191-2C30-471A-8CB2-2EC648D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2006-C778-4873-AA3B-95EAEF8F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1EB5-58AD-4CBD-B540-B9F91975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3A23-23DF-4346-B1DC-48038106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22F4-77FB-4BF0-8CAF-E81BCE0F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685B-94CB-4B43-AB9D-FA56D4C7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B239-8EFE-4981-8E4C-30BE4BE7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FA001-F9E9-409B-87F7-B575265E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744-31B4-4FA4-80B4-D2325CB0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18FB-C7BC-46FD-AFF4-EEFF5D85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919E-C67B-42DC-A275-2C44DF1F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3ECDF-13CA-4C36-B8E5-BF73C818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E1E9-80A5-46AF-B9F4-6B5F3FCC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AE94-CC5D-4797-A16C-D0D7A185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1E33-F924-400F-9D48-4F54CCF7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48787-B28A-4B42-81C2-D9758BDC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C9F1-1515-49E5-8159-5FD0CAA6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7E7C-3DD6-4F2D-A25B-BD26A898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76946-E761-4FC6-9EA4-8DF1ED2D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7C3-FBF6-4B90-A18F-CA68CE37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CBD5-D902-45D9-B8CD-56362071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270E-9FB5-4FFB-BEAE-E77B2781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9FFDD-33BA-4317-B793-7BE8F31D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E6476-39D9-4A73-8E3C-0108D584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4E7B-7479-4D28-AD0A-BA9E1BF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D5FA9-7E95-4A34-872B-80DA9D8A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60CE-14F7-4A03-9BE0-41AB1672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3B6D0-2AA4-4B60-B6EE-1E95655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B4872-A07D-41CB-87BD-BB613F95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BBDE2-49B7-4FD6-AFB5-0D3C39DC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510-E702-4E43-91B3-E1811A3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6C43-2C6F-4C1F-9A74-7F833A92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0F3-73FA-4DEA-A5B9-9FD9CC54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736-35FD-427B-B5D9-364BEC5A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010-E0B6-4B00-A1F9-1ED584CF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8BC6-1C69-4766-B65E-3F3DA9A4FE6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E5F9-6980-4382-A379-CAA6340E821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543-2A6B-4417-B73B-A2C8D3841EB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9131-3E01-4F1D-9042-127406C026A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5732-AD69-40D1-9295-6C45FFBC068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907920" y="603360"/>
            <a:ext cx="8205840" cy="2322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(pages 310-31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By: Daphne G. &amp; Jackson 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7" descr="C:\Users\Student\AppData\Local\Microsoft\Windows\Temporary Internet Files\Content.IE5\E9I7LO7Z\MC900048311[1].wmf"/>
          <p:cNvPicPr/>
          <p:nvPr/>
        </p:nvPicPr>
        <p:blipFill>
          <a:blip r:embed="rId2"/>
          <a:stretch/>
        </p:blipFill>
        <p:spPr>
          <a:xfrm rot="5400000">
            <a:off x="3450960" y="2340000"/>
            <a:ext cx="1600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Content Placeholder 2"/>
          <p:cNvGrpSpPr/>
          <p:nvPr/>
        </p:nvGrpSpPr>
        <p:grpSpPr>
          <a:xfrm>
            <a:off x="353880" y="1517760"/>
            <a:ext cx="7412040" cy="5029200"/>
            <a:chOff x="353880" y="1517760"/>
            <a:chExt cx="7412040" cy="5029200"/>
          </a:xfrm>
        </p:grpSpPr>
        <p:pic>
          <p:nvPicPr>
            <p:cNvPr id="22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1517760"/>
              <a:ext cx="741204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iner Hand ITC"/>
                  <a:ea typeface="Browallia New"/>
                </a:rPr>
                <a:t>Mongols were herders, skilled horse riders, and fierce warriors.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iner Hand ITC"/>
                </a:rPr>
                <a:t>Mongols lived in small clans. The clans fought for grazing land, water, and fire wood, which was scarce in the Asian steppe region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Sometimes a strong leader or khan would bring enemy clans together.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United clans became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With these large clans the Mongols conquered much of Asia and part of Europ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6" name="Rectangle 3" descr=""/>
          <p:cNvPicPr/>
          <p:nvPr/>
        </p:nvPicPr>
        <p:blipFill>
          <a:blip r:embed="rId2"/>
          <a:stretch/>
        </p:blipFill>
        <p:spPr>
          <a:xfrm>
            <a:off x="139680" y="285840"/>
            <a:ext cx="48290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Content Placeholder 2"/>
          <p:cNvGrpSpPr/>
          <p:nvPr/>
        </p:nvGrpSpPr>
        <p:grpSpPr>
          <a:xfrm>
            <a:off x="371520" y="1060560"/>
            <a:ext cx="7394400" cy="5664240"/>
            <a:chOff x="371520" y="1060560"/>
            <a:chExt cx="7394400" cy="5664240"/>
          </a:xfrm>
        </p:grpSpPr>
        <p:pic>
          <p:nvPicPr>
            <p:cNvPr id="22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71520" y="1060560"/>
              <a:ext cx="739440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1143000"/>
              <a:ext cx="72388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he khan Temujin was know for his cruelty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emujin made himself  leader of all the clans in 1206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changed his name to  Genghis  Khan or World Leader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had an army of about 1300 riders that came down from Mongolia into northern China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destroyed cities in his path to Beijing that he  later named it Khanbalik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China had been conquered for the first time by the Mongolians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On his death bed in 1227, Genghis Khan told his sons “A deed is not glorious until it is finished.”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0" name="Rectangle 3" descr=""/>
          <p:cNvPicPr/>
          <p:nvPr/>
        </p:nvPicPr>
        <p:blipFill>
          <a:blip r:embed="rId2"/>
          <a:stretch/>
        </p:blipFill>
        <p:spPr>
          <a:xfrm>
            <a:off x="146160" y="-19080"/>
            <a:ext cx="51642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Content Placeholder 2"/>
          <p:cNvGrpSpPr/>
          <p:nvPr/>
        </p:nvGrpSpPr>
        <p:grpSpPr>
          <a:xfrm>
            <a:off x="360360" y="1523880"/>
            <a:ext cx="7491240" cy="5023080"/>
            <a:chOff x="360360" y="1523880"/>
            <a:chExt cx="7491240" cy="5023080"/>
          </a:xfrm>
        </p:grpSpPr>
        <p:pic>
          <p:nvPicPr>
            <p:cNvPr id="23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60360" y="1523880"/>
              <a:ext cx="749124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atu was one of Genghis Khan’s grandson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e led armies into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is armies killed many people, and kept some as slaves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y about 1260, the Mongols had created the largest empire the world has ever known and it covered most of Asia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128520" y="285840"/>
            <a:ext cx="22971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36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3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 was a grandson of Genghis Khan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became the leader of the Mongol empire in 1260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sent soldiers throughout the empire to help bring peac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Under Kublai Khan’s reign merchants felt safe to travel the trade rout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’s empire started major trading throughout east and west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 What did Mongols fight for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United clans became what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What does Genghis Khan mean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Where did Batu lead his armies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Why did Kublai Khan send out his soldiers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42" name="Rectangle 3" descr=""/>
          <p:cNvPicPr/>
          <p:nvPr/>
        </p:nvPicPr>
        <p:blipFill>
          <a:blip r:embed="rId2"/>
          <a:stretch/>
        </p:blipFill>
        <p:spPr>
          <a:xfrm>
            <a:off x="281160" y="285840"/>
            <a:ext cx="23097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44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Grazing land, water, and fire wood. 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It means “ World Leader”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Into 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To help bring peace to the empir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3:33Z</dcterms:created>
  <dc:creator>Student</dc:creator>
  <dc:description/>
  <dc:language>en-US</dc:language>
  <cp:lastModifiedBy>Student</cp:lastModifiedBy>
  <dcterms:modified xsi:type="dcterms:W3CDTF">2010-10-25T14:22:51Z</dcterms:modified>
  <cp:revision>19</cp:revision>
  <dc:subject/>
  <dc:title>Mongol Empire</dc:title>
</cp:coreProperties>
</file>