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141E-63E2-4A6C-9919-CC4C911AF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55FB-BA9F-4F81-AE7D-68D710775B0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DBE-801B-490C-8801-990B99DB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40DD-B69D-47F5-9599-2620E28A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A9C-A80F-4C39-B66C-833A7EEC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D15A-D683-4057-8377-F5B633E2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57B6-0FC7-465C-978C-0F35349A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FFE4-A254-4883-88AD-7E600F7B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CE6-D6F2-4130-909F-180C0314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0B6-DEB0-4D6E-AF57-AE0F7411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18F-80B5-44F7-AF49-2A38EFFC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337C-4A74-4267-ABB3-BBD23ECF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BDC-8D47-41E4-87FB-831BFED8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E5C-D04B-4571-94A8-AC05048D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FDA9-B1DC-427E-BCF0-B6519BAF95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50822" dir="5229471" blurRad="0" rotWithShape="0">
              <a:srgbClr val="000000">
                <a:alpha val="33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0d010"/>
                </a:solidFill>
                <a:latin typeface="Calibri"/>
              </a:rPr>
              <a:t>Tang Dynasty</a:t>
            </a:r>
            <a:br>
              <a:rPr sz="4000"/>
            </a:br>
            <a:r>
              <a:rPr b="0" lang="en-US" sz="4000" spc="-1" strike="noStrike">
                <a:solidFill>
                  <a:srgbClr val="f0d010"/>
                </a:solidFill>
                <a:latin typeface="Calibri"/>
              </a:rPr>
              <a:t>The Golden Ag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48769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50822" dir="5229471" blurRad="0" rotWithShape="0">
              <a:srgbClr val="000000">
                <a:alpha val="33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d010"/>
                </a:solidFill>
                <a:latin typeface="Calibri"/>
              </a:rPr>
              <a:t>By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d010"/>
                </a:solidFill>
                <a:latin typeface="Calibri"/>
              </a:rPr>
              <a:t>Chris Shibilski and Sydney Aler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155520" y="-479520"/>
            <a:ext cx="1057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4" descr="gold symbol.jpg"/>
          <p:cNvPicPr/>
          <p:nvPr/>
        </p:nvPicPr>
        <p:blipFill>
          <a:blip r:embed="rId1"/>
          <a:stretch/>
        </p:blipFill>
        <p:spPr>
          <a:xfrm>
            <a:off x="3273480" y="1725480"/>
            <a:ext cx="2676600" cy="32846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d010"/>
                </a:solidFill>
                <a:latin typeface="Calibri"/>
              </a:rPr>
              <a:t>Facts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0d01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d010"/>
                </a:solidFill>
                <a:latin typeface="Calibri"/>
              </a:rPr>
              <a:t>The Golden Age lasted from A.D. 618 to 7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f0d01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f0d01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d010"/>
                </a:solidFill>
                <a:latin typeface="Calibri"/>
              </a:rPr>
              <a:t>The people in the Age perfected printing blocks, which led to the first paper currenci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f0d01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f0d01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d010"/>
                </a:solidFill>
                <a:latin typeface="Calibri"/>
              </a:rPr>
              <a:t>Potters found out how to make porcelain, which is a pottery that is almost clear. Porcelain is still famous today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3" descr="porcelian statue.jpg"/>
          <p:cNvPicPr/>
          <p:nvPr/>
        </p:nvPicPr>
        <p:blipFill>
          <a:blip r:embed="rId1"/>
          <a:stretch/>
        </p:blipFill>
        <p:spPr>
          <a:xfrm>
            <a:off x="4187880" y="563256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golden cup.jpg"/>
          <p:cNvPicPr/>
          <p:nvPr/>
        </p:nvPicPr>
        <p:blipFill>
          <a:blip r:embed="rId2"/>
          <a:stretch/>
        </p:blipFill>
        <p:spPr>
          <a:xfrm>
            <a:off x="3882960" y="1596960"/>
            <a:ext cx="1000080" cy="126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money.jpg"/>
          <p:cNvPicPr/>
          <p:nvPr/>
        </p:nvPicPr>
        <p:blipFill>
          <a:blip r:embed="rId3"/>
          <a:stretch/>
        </p:blipFill>
        <p:spPr>
          <a:xfrm>
            <a:off x="3578400" y="3651120"/>
            <a:ext cx="1841400" cy="10242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d010"/>
                </a:solidFill>
                <a:latin typeface="Calibri"/>
              </a:rPr>
              <a:t>Facts continued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d01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d010"/>
                </a:solidFill>
                <a:latin typeface="Calibri"/>
              </a:rPr>
              <a:t>In this age they renewed their interests in different religions, such as Daoism, Buddhism, Christianity and Confucian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0d01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d010"/>
                </a:solidFill>
                <a:latin typeface="Calibri"/>
              </a:rPr>
              <a:t>In 960 A.D., the Tang Dynasty fell and Zhao Kuangyin claimed the Mandate of Heaven to start the Song dynas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0d0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3" descr="daoism.jpg"/>
          <p:cNvPicPr/>
          <p:nvPr/>
        </p:nvPicPr>
        <p:blipFill>
          <a:blip r:embed="rId1"/>
          <a:stretch/>
        </p:blipFill>
        <p:spPr>
          <a:xfrm>
            <a:off x="1365120" y="2968560"/>
            <a:ext cx="981360" cy="100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buddah.jpg"/>
          <p:cNvPicPr/>
          <p:nvPr/>
        </p:nvPicPr>
        <p:blipFill>
          <a:blip r:embed="rId2"/>
          <a:stretch/>
        </p:blipFill>
        <p:spPr>
          <a:xfrm>
            <a:off x="3273480" y="2736720"/>
            <a:ext cx="1365120" cy="136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ross.gif"/>
          <p:cNvPicPr/>
          <p:nvPr/>
        </p:nvPicPr>
        <p:blipFill>
          <a:blip r:embed="rId3"/>
          <a:stretch/>
        </p:blipFill>
        <p:spPr>
          <a:xfrm>
            <a:off x="5254560" y="2511360"/>
            <a:ext cx="817560" cy="1487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onfucius.jpg"/>
          <p:cNvPicPr/>
          <p:nvPr/>
        </p:nvPicPr>
        <p:blipFill>
          <a:blip r:embed="rId4"/>
          <a:stretch/>
        </p:blipFill>
        <p:spPr>
          <a:xfrm>
            <a:off x="6699240" y="2736720"/>
            <a:ext cx="1238400" cy="1305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song dynasty pic.jpg"/>
          <p:cNvPicPr/>
          <p:nvPr/>
        </p:nvPicPr>
        <p:blipFill>
          <a:blip r:embed="rId5"/>
          <a:stretch/>
        </p:blipFill>
        <p:spPr>
          <a:xfrm>
            <a:off x="1596960" y="5394240"/>
            <a:ext cx="2090880" cy="1470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song dynasty pic 2.jpg"/>
          <p:cNvPicPr/>
          <p:nvPr/>
        </p:nvPicPr>
        <p:blipFill>
          <a:blip r:embed="rId6"/>
          <a:stretch/>
        </p:blipFill>
        <p:spPr>
          <a:xfrm>
            <a:off x="5175360" y="5394240"/>
            <a:ext cx="2225520" cy="14702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d010"/>
                </a:solidFill>
                <a:latin typeface="Calibri"/>
              </a:rPr>
              <a:t>Qui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0d0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d010"/>
                </a:solidFill>
                <a:latin typeface="Calibri"/>
              </a:rPr>
              <a:t>How many years did the Golden Age last for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d010"/>
                </a:solidFill>
                <a:latin typeface="Calibri"/>
              </a:rPr>
              <a:t>2. Which four religions were welcomed back in the Golden Age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d010"/>
                </a:solidFill>
                <a:latin typeface="Calibri"/>
              </a:rPr>
              <a:t>3. What year did the Tang Dynasty fall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d010"/>
                </a:solidFill>
                <a:latin typeface="Calibri"/>
              </a:rPr>
              <a:t>4. What is porcelain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d010"/>
                </a:solidFill>
                <a:latin typeface="Calibri"/>
              </a:rPr>
              <a:t>5. What dynasty followed the Golden Age and Tang Dynasty?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d0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d010"/>
                </a:solidFill>
                <a:latin typeface="Calibri"/>
              </a:rPr>
              <a:t>Answers to Qui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0d010"/>
                </a:solidFill>
                <a:latin typeface="Calibri"/>
              </a:rPr>
              <a:t>1. It lasted for 132 year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0d0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0d010"/>
                </a:solidFill>
                <a:latin typeface="Calibri"/>
              </a:rPr>
              <a:t>2. The four religions were Daoism, Buddhism, Christianity and Confucianism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0d0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0d010"/>
                </a:solidFill>
                <a:latin typeface="Calibri"/>
              </a:rPr>
              <a:t>3. The Tang Dynasty and Golden Age fell in the year 960 A.D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0d01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0d010"/>
                </a:solidFill>
                <a:latin typeface="Calibri"/>
              </a:rPr>
              <a:t>4. Porcelain is a pottery that is almost clear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0d01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0d010"/>
                </a:solidFill>
                <a:latin typeface="Calibri"/>
              </a:rPr>
              <a:t>5. The Song Dynasty followed the Tang Dynasty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advTm="3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0d010"/>
                </a:solidFill>
                <a:latin typeface="Calibri"/>
              </a:rPr>
              <a:t>Thanks for Watching!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53:39Z</dcterms:created>
  <dc:creator>Student</dc:creator>
  <dc:description/>
  <dc:language>en-US</dc:language>
  <cp:lastModifiedBy>Student</cp:lastModifiedBy>
  <dcterms:modified xsi:type="dcterms:W3CDTF">2010-10-25T14:00:22Z</dcterms:modified>
  <cp:revision>23</cp:revision>
  <dc:subject/>
  <dc:title>Tang Dynasty: The Golden Age</dc:title>
</cp:coreProperties>
</file>