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E31E-13BC-442D-B8DF-49B56B61C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8B5-7D74-4029-8B11-7B34CA1F8A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BB8-1FB0-4C64-8845-08635646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322-91A6-440A-94E7-33E88F3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C5D-9CE0-406C-AB00-CF48BB4C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04C-89EC-4A6E-8A47-CFADCCA4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382-F9AD-49C6-B5C1-FFBD8539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346-E957-437B-99AC-719D5C1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EA7-D25B-4C50-905F-5AAA5A2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11B-5ADC-4A38-A15F-A54DE1FC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674-A3E7-469F-B3EF-82A9E0BD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B25-8A4E-46F9-A4ED-2A0075A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6E7-2348-4C11-8F8D-5039424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E82-0439-496A-934F-B312B5E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495-89EE-4080-BA50-0BB46A1DA6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d010"/>
                </a:solidFill>
                <a:latin typeface="Calibri"/>
              </a:rPr>
              <a:t>Tang Dynasty</a:t>
            </a:r>
            <a:br>
              <a:rPr sz="4000"/>
            </a:br>
            <a:r>
              <a:rPr b="0" lang="en-US" sz="4000" spc="-1" strike="noStrike">
                <a:solidFill>
                  <a:srgbClr val="f0d010"/>
                </a:solidFill>
                <a:latin typeface="Calibri"/>
              </a:rPr>
              <a:t>The Golden A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By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Chris Shibilski and Sydney Ale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55520" y="-479520"/>
            <a:ext cx="1057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gold symbol.jpg"/>
          <p:cNvPicPr/>
          <p:nvPr/>
        </p:nvPicPr>
        <p:blipFill>
          <a:blip r:embed="rId1"/>
          <a:stretch/>
        </p:blipFill>
        <p:spPr>
          <a:xfrm>
            <a:off x="3273480" y="1725480"/>
            <a:ext cx="2676600" cy="3284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Golden Age lasted from A.D. 618 to 7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people in the Age perfected printing blocks, which led to the first paper currenc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Potters found out how to make porcelain, which is a pottery that is almost clear. Porcelain is still famous today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porcelian statue.jpg"/>
          <p:cNvPicPr/>
          <p:nvPr/>
        </p:nvPicPr>
        <p:blipFill>
          <a:blip r:embed="rId1"/>
          <a:stretch/>
        </p:blipFill>
        <p:spPr>
          <a:xfrm>
            <a:off x="4187880" y="56325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olden cup.jpg"/>
          <p:cNvPicPr/>
          <p:nvPr/>
        </p:nvPicPr>
        <p:blipFill>
          <a:blip r:embed="rId2"/>
          <a:stretch/>
        </p:blipFill>
        <p:spPr>
          <a:xfrm>
            <a:off x="3882960" y="1596960"/>
            <a:ext cx="1000080" cy="126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oney.jpg"/>
          <p:cNvPicPr/>
          <p:nvPr/>
        </p:nvPicPr>
        <p:blipFill>
          <a:blip r:embed="rId3"/>
          <a:stretch/>
        </p:blipFill>
        <p:spPr>
          <a:xfrm>
            <a:off x="3578400" y="3651120"/>
            <a:ext cx="1841400" cy="10242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 continu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this age they renewed their interests in different religions, such as Daoism, Buddhism, Christianity and Confucian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960 A.D., the Tang Dynasty fell and Zhao Kuangyin claimed the Mandate of Heaven to start the Song dynas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daoism.jpg"/>
          <p:cNvPicPr/>
          <p:nvPr/>
        </p:nvPicPr>
        <p:blipFill>
          <a:blip r:embed="rId1"/>
          <a:stretch/>
        </p:blipFill>
        <p:spPr>
          <a:xfrm>
            <a:off x="1365120" y="2968560"/>
            <a:ext cx="98136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uddah.jpg"/>
          <p:cNvPicPr/>
          <p:nvPr/>
        </p:nvPicPr>
        <p:blipFill>
          <a:blip r:embed="rId2"/>
          <a:stretch/>
        </p:blipFill>
        <p:spPr>
          <a:xfrm>
            <a:off x="3273480" y="2736720"/>
            <a:ext cx="1365120" cy="136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ross.gif"/>
          <p:cNvPicPr/>
          <p:nvPr/>
        </p:nvPicPr>
        <p:blipFill>
          <a:blip r:embed="rId3"/>
          <a:stretch/>
        </p:blipFill>
        <p:spPr>
          <a:xfrm>
            <a:off x="5254560" y="2511360"/>
            <a:ext cx="817560" cy="148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onfucius.jpg"/>
          <p:cNvPicPr/>
          <p:nvPr/>
        </p:nvPicPr>
        <p:blipFill>
          <a:blip r:embed="rId4"/>
          <a:stretch/>
        </p:blipFill>
        <p:spPr>
          <a:xfrm>
            <a:off x="6699240" y="27367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song dynasty pic.jpg"/>
          <p:cNvPicPr/>
          <p:nvPr/>
        </p:nvPicPr>
        <p:blipFill>
          <a:blip r:embed="rId5"/>
          <a:stretch/>
        </p:blipFill>
        <p:spPr>
          <a:xfrm>
            <a:off x="1596960" y="5394240"/>
            <a:ext cx="2090880" cy="147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ong dynasty pic 2.jpg"/>
          <p:cNvPicPr/>
          <p:nvPr/>
        </p:nvPicPr>
        <p:blipFill>
          <a:blip r:embed="rId6"/>
          <a:stretch/>
        </p:blipFill>
        <p:spPr>
          <a:xfrm>
            <a:off x="5175360" y="5394240"/>
            <a:ext cx="2225520" cy="14702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How many years did the Golden Age last for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2. Which four religions were welcomed back in the Golden Ag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3. What year did the Tang Dynasty fall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4. What is porcelai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5. What dynasty followed the Golden Age and Tang Dynasty?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Answers to 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1. It lasted for 132 yea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2. The four religions were Daoism, Buddhism, Christianity and Confucianis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3. The Tang Dynasty and Golden Age fell in the year 960 A.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4. Porcelain is a pottery that is almost clea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5. The Song Dynasty followed the Tang Dynast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3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0d010"/>
                </a:solidFill>
                <a:latin typeface="Calibri"/>
              </a:rPr>
              <a:t>Thanks for Watching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9Z</dcterms:created>
  <dc:creator>Student</dc:creator>
  <dc:description/>
  <dc:language>en-US</dc:language>
  <cp:lastModifiedBy>Student</cp:lastModifiedBy>
  <dcterms:modified xsi:type="dcterms:W3CDTF">2010-10-25T14:00:22Z</dcterms:modified>
  <cp:revision>23</cp:revision>
  <dc:subject/>
  <dc:title>Tang Dynasty: The Golden Age</dc:title>
</cp:coreProperties>
</file>