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7A95-2C15-4E8B-A46D-71F1D6377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4E61-1BC6-4081-A90A-E093891F6A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F72-81CC-425D-B526-50BA53CA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D01-CBAB-45F3-AEB2-9653A0DD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202-0236-4370-83AC-96D28C3D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7A8-5E86-420A-8124-CBB66682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785-DB7A-4EB3-95D9-FDCC12C6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166-F22D-4E8C-88CA-902E8B54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D1D-B93A-427B-B223-DE8F920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C46-9111-4E60-AAE1-ECDF1573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A3B-F9D1-4016-8001-92DFA665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F7C-CB4F-4DD4-9886-956E73D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F05-B964-412C-B211-D8EC256E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4FB-7F26-4769-A151-12BFBAA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B43-EC09-4ECE-906F-1221DF2400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50822" dir="5229471" blurRad="0" rotWithShape="0">
              <a:srgbClr val="000000">
                <a:alpha val="3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d010"/>
                </a:solidFill>
                <a:latin typeface="Calibri"/>
              </a:rPr>
              <a:t>Tang Dynasty</a:t>
            </a:r>
            <a:br>
              <a:rPr sz="4000"/>
            </a:br>
            <a:r>
              <a:rPr b="0" lang="en-US" sz="4000" spc="-1" strike="noStrike">
                <a:solidFill>
                  <a:srgbClr val="f0d010"/>
                </a:solidFill>
                <a:latin typeface="Calibri"/>
              </a:rPr>
              <a:t>The Golden A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8769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50822" dir="5229471" blurRad="0" rotWithShape="0">
              <a:srgbClr val="000000">
                <a:alpha val="33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d010"/>
                </a:solidFill>
                <a:latin typeface="Calibri"/>
              </a:rPr>
              <a:t>By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d010"/>
                </a:solidFill>
                <a:latin typeface="Calibri"/>
              </a:rPr>
              <a:t>Chris Shibilski and Sydney Ale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55520" y="-479520"/>
            <a:ext cx="1057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gold symbol.jpg"/>
          <p:cNvPicPr/>
          <p:nvPr/>
        </p:nvPicPr>
        <p:blipFill>
          <a:blip r:embed="rId1"/>
          <a:stretch/>
        </p:blipFill>
        <p:spPr>
          <a:xfrm>
            <a:off x="3273480" y="1725480"/>
            <a:ext cx="2676600" cy="3284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Fact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The Golden Age lasted from A.D. 618 to 7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The people in the Age perfected printing blocks, which led to the first paper currenc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Potters found out how to make porcelain, which is a pottery that is almost clear. Porcelain is still famous today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3" descr="porcelian statue.jpg"/>
          <p:cNvPicPr/>
          <p:nvPr/>
        </p:nvPicPr>
        <p:blipFill>
          <a:blip r:embed="rId1"/>
          <a:stretch/>
        </p:blipFill>
        <p:spPr>
          <a:xfrm>
            <a:off x="4187880" y="563256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golden cup.jpg"/>
          <p:cNvPicPr/>
          <p:nvPr/>
        </p:nvPicPr>
        <p:blipFill>
          <a:blip r:embed="rId2"/>
          <a:stretch/>
        </p:blipFill>
        <p:spPr>
          <a:xfrm>
            <a:off x="3882960" y="1596960"/>
            <a:ext cx="1000080" cy="126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oney.jpg"/>
          <p:cNvPicPr/>
          <p:nvPr/>
        </p:nvPicPr>
        <p:blipFill>
          <a:blip r:embed="rId3"/>
          <a:stretch/>
        </p:blipFill>
        <p:spPr>
          <a:xfrm>
            <a:off x="3578400" y="3651120"/>
            <a:ext cx="1841400" cy="10242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Facts continu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In this age they renewed their interests in different religions, such as Daoism, Buddhism, Christianity and Confucian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In 960 A.D., the Tang Dynasty fell and Zhao Kuangyin claimed the Mandate of Heaven to start the Song dynas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0d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3" descr="daoism.jpg"/>
          <p:cNvPicPr/>
          <p:nvPr/>
        </p:nvPicPr>
        <p:blipFill>
          <a:blip r:embed="rId1"/>
          <a:stretch/>
        </p:blipFill>
        <p:spPr>
          <a:xfrm>
            <a:off x="1365120" y="2968560"/>
            <a:ext cx="98136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uddah.jpg"/>
          <p:cNvPicPr/>
          <p:nvPr/>
        </p:nvPicPr>
        <p:blipFill>
          <a:blip r:embed="rId2"/>
          <a:stretch/>
        </p:blipFill>
        <p:spPr>
          <a:xfrm>
            <a:off x="3273480" y="2736720"/>
            <a:ext cx="1365120" cy="136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ross.gif"/>
          <p:cNvPicPr/>
          <p:nvPr/>
        </p:nvPicPr>
        <p:blipFill>
          <a:blip r:embed="rId3"/>
          <a:stretch/>
        </p:blipFill>
        <p:spPr>
          <a:xfrm>
            <a:off x="5254560" y="2511360"/>
            <a:ext cx="817560" cy="148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onfucius.jpg"/>
          <p:cNvPicPr/>
          <p:nvPr/>
        </p:nvPicPr>
        <p:blipFill>
          <a:blip r:embed="rId4"/>
          <a:stretch/>
        </p:blipFill>
        <p:spPr>
          <a:xfrm>
            <a:off x="6699240" y="2736720"/>
            <a:ext cx="1238400" cy="1305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song dynasty pic.jpg"/>
          <p:cNvPicPr/>
          <p:nvPr/>
        </p:nvPicPr>
        <p:blipFill>
          <a:blip r:embed="rId5"/>
          <a:stretch/>
        </p:blipFill>
        <p:spPr>
          <a:xfrm>
            <a:off x="1596960" y="5394240"/>
            <a:ext cx="2090880" cy="147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song dynasty pic 2.jpg"/>
          <p:cNvPicPr/>
          <p:nvPr/>
        </p:nvPicPr>
        <p:blipFill>
          <a:blip r:embed="rId6"/>
          <a:stretch/>
        </p:blipFill>
        <p:spPr>
          <a:xfrm>
            <a:off x="5175360" y="5394240"/>
            <a:ext cx="2225520" cy="14702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Qui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0d0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How many years did the Golden Age last for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2. Which four religions were welcomed back in the Golden Age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3. What year did the Tang Dynasty fall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4. What is porcelai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5. What dynasty followed the Golden Age and Tang Dynasty?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d0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Answers to Qui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1. It lasted for 132 year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0d0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2. The four religions were Daoism, Buddhism, Christianity and Confucianis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0d0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3. The Tang Dynasty and Golden Age fell in the year 960 A.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4. Porcelain is a pottery that is almost clear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5. The Song Dynasty followed the Tang Dynast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3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0d010"/>
                </a:solidFill>
                <a:latin typeface="Calibri"/>
              </a:rPr>
              <a:t>Thanks for Watching!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3:39Z</dcterms:created>
  <dc:creator>Student</dc:creator>
  <dc:description/>
  <dc:language>en-US</dc:language>
  <cp:lastModifiedBy>Student</cp:lastModifiedBy>
  <dcterms:modified xsi:type="dcterms:W3CDTF">2010-10-25T14:00:22Z</dcterms:modified>
  <cp:revision>23</cp:revision>
  <dc:subject/>
  <dc:title>Tang Dynasty: The Golden Age</dc:title>
</cp:coreProperties>
</file>