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7F1-7853-4D28-AA25-75ADE044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69E-5495-4A82-B716-F3132B9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0FF-87B4-454F-97A1-E6300B02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B0F-B4E4-4BC5-BF49-36FC70D8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E2C4-8408-41B5-A598-E0CDD28E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6A6E-0E92-4A1F-B254-7CDE63EE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D0E2-EB8F-4AD1-9C75-83745305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2AD7-E0EE-4728-8B7B-2696E655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EEFF-E798-453F-BDD3-EC53F65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B82-A6D0-4098-A5BF-FB20EE2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88DA-1BB2-404A-88DA-561A380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5CF-E924-4163-AE15-FB85B9ED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D428-C963-4FCF-AF4B-3EBDD297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C2DF-7E09-4487-9D9F-86CC611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0D7C-CADE-43FF-8243-BD4DF8D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FAC2-028C-4E80-B7FF-86E65E55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B52F-2437-472B-9BDA-C0F87F4C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A6A2-12C3-4F46-ACC5-F3775F6C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DE8A-CB70-435D-9A37-AEC26252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001F-698F-447E-803D-168CB08E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DC4B-6EC9-4023-9617-6C259D1E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CEB7-FCB5-4C3E-A798-E503EB7A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6AE-FB44-464D-8510-87254C21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A600-A066-4CD4-9671-6E363E14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1737-7F59-4852-B0D8-CFA3D05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172D-45FF-4895-A08E-8493A4F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2E6A-0CC6-4732-94C7-6012F9F0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BAD0-11B9-4F98-B230-1BB82E6D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7354-0081-4CED-B2ED-20D90B09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E14E-FEB8-4A3D-B2FA-16ABDB53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C4C3-A743-448D-8C64-9B0CB2CD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1D67-265A-4697-B12B-FA23B3ED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966B-7C1C-424B-AD64-2089C2AF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BE8-8BBD-4906-B287-B6A67B69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A0591-00C0-4512-AB75-B51D96F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7F7E-024E-4D09-A5E8-1407F63C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92AD-1C12-4567-A802-013891BA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F0B6-2F11-46E6-BE2B-2DBC966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E619-CDB8-4E25-A83F-9D92751C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56972-752F-4204-B246-2E56D641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2DF6-C78C-4E6C-A235-FE5091CE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94C1-BCC6-429B-9A62-666C7439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331E-B7C4-4B6D-B57D-CF720A9A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A4F3-C6B6-4F0E-AAC9-DEE84FE4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B52-3771-479B-B50F-4951B7D7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11ADC-ADAE-41D4-9F06-4157745C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58CE4-A2DF-481D-B5D0-948C042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C8575-038B-4D67-A992-BAFE6B17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5189-98EE-4373-A968-21DF9637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AC95-BB78-4CA5-85FB-8A97EBA0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9D221-DD79-465E-9027-9643F9A3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3319-30E2-4769-88C1-F7727A20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509A-D425-404F-A7FF-11ACC390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5EA85-A605-414A-989D-57E3D077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3158-76F4-4F4F-BF75-80DE47B1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F01-35E6-4EA7-962B-ED163BAA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F658-C466-4428-A0D9-6D7E75C4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1A8-E7EE-4399-9B84-9F164D55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B35-2ECE-44A9-A1B7-E196CED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EBC-709B-4393-BAE5-178771FD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EEAC-6278-45E6-A279-BF2F54C3B10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4606-FACC-4AEE-B65C-6D7E8AEAA44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DD96-C427-45CF-9D82-1B1E77A6C3B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C97-9765-4159-920F-38A31876E1D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8891-188C-4190-A1E4-54B6A650AC9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907920" y="603360"/>
            <a:ext cx="8205840" cy="2322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(pages 310-31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By: Daphne G. &amp; Jackson 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7" descr="C:\Users\Student\AppData\Local\Microsoft\Windows\Temporary Internet Files\Content.IE5\E9I7LO7Z\MC900048311[1].wmf"/>
          <p:cNvPicPr/>
          <p:nvPr/>
        </p:nvPicPr>
        <p:blipFill>
          <a:blip r:embed="rId2"/>
          <a:stretch/>
        </p:blipFill>
        <p:spPr>
          <a:xfrm rot="5400000">
            <a:off x="3450960" y="2340000"/>
            <a:ext cx="1600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Content Placeholder 2"/>
          <p:cNvGrpSpPr/>
          <p:nvPr/>
        </p:nvGrpSpPr>
        <p:grpSpPr>
          <a:xfrm>
            <a:off x="353880" y="1517760"/>
            <a:ext cx="7412040" cy="5029200"/>
            <a:chOff x="353880" y="1517760"/>
            <a:chExt cx="7412040" cy="5029200"/>
          </a:xfrm>
        </p:grpSpPr>
        <p:pic>
          <p:nvPicPr>
            <p:cNvPr id="22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53880" y="1517760"/>
              <a:ext cx="741204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iner Hand ITC"/>
                  <a:ea typeface="Browallia New"/>
                </a:rPr>
                <a:t>Mongols were herders, skilled horse riders, and fierce warriors.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iner Hand ITC"/>
                </a:rPr>
                <a:t>Mongols lived in small clans. The clans fought for grazing land, water, and fire wood, which was scarce in the Asian steppe region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Sometimes a strong leader or khan would bring enemy clans together.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United clans became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With these large clans the Mongols conquered much of Asia and part of Europ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6" name="Rectangle 3" descr=""/>
          <p:cNvPicPr/>
          <p:nvPr/>
        </p:nvPicPr>
        <p:blipFill>
          <a:blip r:embed="rId2"/>
          <a:stretch/>
        </p:blipFill>
        <p:spPr>
          <a:xfrm>
            <a:off x="139680" y="285840"/>
            <a:ext cx="482904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Content Placeholder 2"/>
          <p:cNvGrpSpPr/>
          <p:nvPr/>
        </p:nvGrpSpPr>
        <p:grpSpPr>
          <a:xfrm>
            <a:off x="371520" y="1060560"/>
            <a:ext cx="7394400" cy="5664240"/>
            <a:chOff x="371520" y="1060560"/>
            <a:chExt cx="7394400" cy="5664240"/>
          </a:xfrm>
        </p:grpSpPr>
        <p:pic>
          <p:nvPicPr>
            <p:cNvPr id="22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71520" y="1060560"/>
              <a:ext cx="7394400" cy="56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7200" y="1143000"/>
              <a:ext cx="72388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he khan Temujin was know for his cruelty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emujin made himself  leader of all the clans in 1206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changed his name to  Genghis  Khan or World Leader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had an army of about 1300 riders that came down from Mongolia into northern China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destroyed cities in his path to Beijing that he  later named it Khanbalik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China had been conquered for the first time by the Mongolians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On his death bed in 1227, Genghis Khan told his sons “A deed is not glorious until it is finished.”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0" name="Rectangle 3" descr=""/>
          <p:cNvPicPr/>
          <p:nvPr/>
        </p:nvPicPr>
        <p:blipFill>
          <a:blip r:embed="rId2"/>
          <a:stretch/>
        </p:blipFill>
        <p:spPr>
          <a:xfrm>
            <a:off x="146160" y="-19080"/>
            <a:ext cx="51642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Content Placeholder 2"/>
          <p:cNvGrpSpPr/>
          <p:nvPr/>
        </p:nvGrpSpPr>
        <p:grpSpPr>
          <a:xfrm>
            <a:off x="360360" y="1523880"/>
            <a:ext cx="7491240" cy="5023080"/>
            <a:chOff x="360360" y="1523880"/>
            <a:chExt cx="7491240" cy="5023080"/>
          </a:xfrm>
        </p:grpSpPr>
        <p:pic>
          <p:nvPicPr>
            <p:cNvPr id="23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60360" y="1523880"/>
              <a:ext cx="749124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atu was one of Genghis Khan’s grandson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e led armies into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is armies killed many people, and kept some as slaves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y about 1260, the Mongols had created the largest empire the world has ever known and it covered most of Asia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4" name="Rectangle 3" descr=""/>
          <p:cNvPicPr/>
          <p:nvPr/>
        </p:nvPicPr>
        <p:blipFill>
          <a:blip r:embed="rId2"/>
          <a:stretch/>
        </p:blipFill>
        <p:spPr>
          <a:xfrm>
            <a:off x="128520" y="285840"/>
            <a:ext cx="22971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36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3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 was a grandson of Genghis Khan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became the leader of the Mongol empire in 1260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sent soldiers throughout the empire to help bring peac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Under Kublai Khan’s reign merchants felt safe to travel the trade rout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’s empire started major trading throughout east and west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 What did Mongols fight for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United clans became what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What does Genghis Khan mean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Where did Batu lead his armies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Why did Kublai Khan send out his soldiers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42" name="Rectangle 3" descr=""/>
          <p:cNvPicPr/>
          <p:nvPr/>
        </p:nvPicPr>
        <p:blipFill>
          <a:blip r:embed="rId2"/>
          <a:stretch/>
        </p:blipFill>
        <p:spPr>
          <a:xfrm>
            <a:off x="281160" y="285840"/>
            <a:ext cx="23097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44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Grazing land, water, and fire wood. 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It means “ World Leader”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Into 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To help bring peace to the empir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3:33Z</dcterms:created>
  <dc:creator>Student</dc:creator>
  <dc:description/>
  <dc:language>en-US</dc:language>
  <cp:lastModifiedBy>Student</cp:lastModifiedBy>
  <dcterms:modified xsi:type="dcterms:W3CDTF">2010-10-25T14:22:51Z</dcterms:modified>
  <cp:revision>19</cp:revision>
  <dc:subject/>
  <dc:title>Mongol Empire</dc:title>
</cp:coreProperties>
</file>