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95B-E013-46EA-B74D-9DC357C5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DE4-3809-4385-93A6-36B506D4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5DB-7CB1-409B-A87A-742A25F5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479-1A7E-4FB2-A710-A41ADAAE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0236-24DD-4CE0-AC43-47C640EF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D8E9-E25D-4EF4-B5F3-AC6B2360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3C0F-CBF7-4C67-B16C-6D89FA04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CDA3-684E-4CD5-A726-3DECF86E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E0BB-EDF4-4CFD-A58F-3F3166F6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89CA-DB25-4C48-A33B-7A1EE3C1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44FD-1CA5-4FFE-8C1E-D3318AFC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086-3202-4335-AB74-5C3AD85A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4E66-7607-4D67-B317-A5727E89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9473-79F9-4A76-BF9E-B1FBF9DA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CB07-5C25-4D5D-84B6-C03BD2AA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C4DC-3C77-48A7-B5F7-7DA608BA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E620-74B0-4BAC-80B9-AB22C22C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A954-4BF1-4792-BBAC-0C86F4A3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E9C8-744E-4339-920B-361E0C99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B4422-6D4C-4554-9A10-E1789A54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6824C-007C-48D1-A862-8C2DAE4E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88DE6-4D51-4FE3-98A0-1B3E55B3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399-B6C0-469C-88E9-9792AF70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062E-1873-44C8-8DE3-D5DD724D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5D73-B4DF-4400-BB7C-0BC7B134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3E11-9DA2-4091-9340-3CA5993C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01C9-9A4A-4FB9-89A3-611F5029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D623-B1BE-4747-B459-837A2BDB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F155-93AA-466A-BA70-9DCAD8D1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3432F-3C6F-4F7E-8944-F19A4913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BC1B-504F-4789-B178-803477C8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50E44-D328-4F2A-BE1D-FF8E6D82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A8F4-9BDB-4766-A748-82154FE6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F0A-DE53-4750-ACE2-A78C7F7E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06EF-5E41-424F-8F5B-087F26FC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AFF9A-839D-4D5D-AC3C-7733F2CC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55D5-4402-4129-98B0-95B6906D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8B26-F0B3-48FF-A00E-693CEEAA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30589-D220-4ACE-9F47-07F1F401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2FEA1-C8E3-4258-859F-5696C2B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D659C-2F2D-4E9B-BE27-6D16059B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94D9-6963-4B09-9C2A-94B641D7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362F-F1B5-47BA-9B79-C07D9CFF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7257F-F0B0-4104-9BD0-CDE92F3D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346-8845-4C55-990A-42CD58C0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BDB4A-680D-46C6-92DD-B32B2775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3A692-0682-4A4E-B6D7-F1AC1D0F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B2AA-08F9-42E7-9495-C2C5BCA9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423D9-F757-448F-8A20-8EEDA9B5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263DF-7BB7-41FC-9150-36E9A8F6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4DA9E-FD9D-4321-930E-CC87E7D6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5AC07-96E2-4578-A188-AD5A02F8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465CD-D223-414C-AD03-3EB3C97B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FD54-8DA0-4806-865A-2E649747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5913F-8D43-4517-BD1A-CF4CEB90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005-5118-4A64-A86B-01DD1C0A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26D06-384B-47C8-9DB0-0BA293BF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C37-930A-4533-81FE-2278C3AA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F8B-B158-4303-B4AC-ED4D6C19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B85-3F60-46A8-ADE3-5A275BD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CF26-E014-4D4A-A25D-F2AAD2187B8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A70D-D5A2-439D-A17C-EF302BF7900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FDE2-DA6B-4E53-8B21-849B89E23AB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FDF8-015D-484A-BEED-E62337916734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0FDB-8E12-482F-BD98-036F0F0CD23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907920" y="603360"/>
            <a:ext cx="8205840" cy="2322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radley Hand ITC"/>
              </a:rPr>
              <a:t>(pages 310-31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radley Hand ITC"/>
              </a:rPr>
              <a:t>By: Daphne G. &amp; Jackson 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7" descr="C:\Users\Student\AppData\Local\Microsoft\Windows\Temporary Internet Files\Content.IE5\E9I7LO7Z\MC900048311[1].wmf"/>
          <p:cNvPicPr/>
          <p:nvPr/>
        </p:nvPicPr>
        <p:blipFill>
          <a:blip r:embed="rId2"/>
          <a:stretch/>
        </p:blipFill>
        <p:spPr>
          <a:xfrm rot="5400000">
            <a:off x="3450960" y="2340000"/>
            <a:ext cx="16002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Content Placeholder 2"/>
          <p:cNvGrpSpPr/>
          <p:nvPr/>
        </p:nvGrpSpPr>
        <p:grpSpPr>
          <a:xfrm>
            <a:off x="353880" y="1517760"/>
            <a:ext cx="7412040" cy="5029200"/>
            <a:chOff x="353880" y="1517760"/>
            <a:chExt cx="7412040" cy="5029200"/>
          </a:xfrm>
        </p:grpSpPr>
        <p:pic>
          <p:nvPicPr>
            <p:cNvPr id="22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53880" y="1517760"/>
              <a:ext cx="741204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iner Hand ITC"/>
                  <a:ea typeface="Browallia New"/>
                </a:rPr>
                <a:t>Mongols were herders, skilled horse riders, and fierce warriors.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iner Hand ITC"/>
                </a:rPr>
                <a:t>Mongols lived in small clans. The clans fought for grazing land, water, and fire wood, which was scarce in the Asian steppe region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Sometimes a strong leader or khan would bring enemy clans together.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United clans became very strong fighting forc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  <a:ea typeface="DFKai-SB"/>
                </a:rPr>
                <a:t>With these large clans the Mongols conquered much of Asia and part of Europ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6" name="Rectangle 3" descr=""/>
          <p:cNvPicPr/>
          <p:nvPr/>
        </p:nvPicPr>
        <p:blipFill>
          <a:blip r:embed="rId2"/>
          <a:stretch/>
        </p:blipFill>
        <p:spPr>
          <a:xfrm>
            <a:off x="139680" y="285840"/>
            <a:ext cx="482904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Content Placeholder 2"/>
          <p:cNvGrpSpPr/>
          <p:nvPr/>
        </p:nvGrpSpPr>
        <p:grpSpPr>
          <a:xfrm>
            <a:off x="371520" y="1060560"/>
            <a:ext cx="7394400" cy="5664240"/>
            <a:chOff x="371520" y="1060560"/>
            <a:chExt cx="7394400" cy="5664240"/>
          </a:xfrm>
        </p:grpSpPr>
        <p:pic>
          <p:nvPicPr>
            <p:cNvPr id="22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71520" y="1060560"/>
              <a:ext cx="7394400" cy="56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7200" y="1143000"/>
              <a:ext cx="72388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The khan Temujin was know for his cruelty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Temujin made himself  leader of all the clans in 1206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changed his name to  Genghis  Khan or World Leader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had an army of about 1300 riders that came down from Mongolia into northern China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He destroyed cities in his path to Beijing that he  later named it Khanbalik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China had been conquered for the first time by the Mongolians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adley Hand ITC"/>
                </a:rPr>
                <a:t>On his death bed in 1227, Genghis Khan told his sons “A deed is not glorious until it is finished.”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0" name="Rectangle 3" descr=""/>
          <p:cNvPicPr/>
          <p:nvPr/>
        </p:nvPicPr>
        <p:blipFill>
          <a:blip r:embed="rId2"/>
          <a:stretch/>
        </p:blipFill>
        <p:spPr>
          <a:xfrm>
            <a:off x="146160" y="-19080"/>
            <a:ext cx="51642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Content Placeholder 2"/>
          <p:cNvGrpSpPr/>
          <p:nvPr/>
        </p:nvGrpSpPr>
        <p:grpSpPr>
          <a:xfrm>
            <a:off x="360360" y="1523880"/>
            <a:ext cx="7491240" cy="5023080"/>
            <a:chOff x="360360" y="1523880"/>
            <a:chExt cx="7491240" cy="5023080"/>
          </a:xfrm>
        </p:grpSpPr>
        <p:pic>
          <p:nvPicPr>
            <p:cNvPr id="23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60360" y="1523880"/>
              <a:ext cx="749124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Batu was one of Genghis Khan’s grandson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He led armies into Europe, Russia, Poland, and Hungary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His armies killed many people, and kept some as slaves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iner Hand ITC"/>
                </a:rPr>
                <a:t>By about 1260, the Mongols had created the largest empire the world has ever known and it covered most of Asia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4" name="Rectangle 3" descr=""/>
          <p:cNvPicPr/>
          <p:nvPr/>
        </p:nvPicPr>
        <p:blipFill>
          <a:blip r:embed="rId2"/>
          <a:stretch/>
        </p:blipFill>
        <p:spPr>
          <a:xfrm>
            <a:off x="128520" y="285840"/>
            <a:ext cx="22971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36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3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Kublai Khan was a grandson of Genghis Khan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He became the leader of the Mongol empire in 1260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He sent soldiers throughout the empire to help bring peac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Under Kublai Khan’s reign merchants felt safe to travel the trade rout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Kublai Khan’s empire started major trading throughout east and west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4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1. What did Mongols fight for?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2.United clans became what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3.What does Genghis Khan mean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4. Where did Batu lead his armies?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5. Why did Kublai Khan send out his soldiers?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42" name="Rectangle 3" descr=""/>
          <p:cNvPicPr/>
          <p:nvPr/>
        </p:nvPicPr>
        <p:blipFill>
          <a:blip r:embed="rId2"/>
          <a:stretch/>
        </p:blipFill>
        <p:spPr>
          <a:xfrm>
            <a:off x="281160" y="285840"/>
            <a:ext cx="23097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44" name="Content Placeholder 2"/>
          <p:cNvGrpSpPr/>
          <p:nvPr/>
        </p:nvGrpSpPr>
        <p:grpSpPr>
          <a:xfrm>
            <a:off x="450720" y="1603440"/>
            <a:ext cx="7255080" cy="4857840"/>
            <a:chOff x="450720" y="1603440"/>
            <a:chExt cx="7255080" cy="4857840"/>
          </a:xfrm>
        </p:grpSpPr>
        <p:pic>
          <p:nvPicPr>
            <p:cNvPr id="245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0720" y="1603440"/>
              <a:ext cx="725508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1.Grazing land, water, and fire wood.  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2. Very strong fighting forces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3.It means “ World Leader”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4. Into  Europe, Russia, Poland, and Hungary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Bradley Hand ITC"/>
                </a:rPr>
                <a:t>5. To help bring peace to the empire.</a:t>
              </a:r>
              <a:endParaRPr b="0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3:33Z</dcterms:created>
  <dc:creator>Student</dc:creator>
  <dc:description/>
  <dc:language>en-US</dc:language>
  <cp:lastModifiedBy>Student</cp:lastModifiedBy>
  <dcterms:modified xsi:type="dcterms:W3CDTF">2010-10-25T14:22:51Z</dcterms:modified>
  <cp:revision>19</cp:revision>
  <dc:subject/>
  <dc:title>Mongol Empire</dc:title>
</cp:coreProperties>
</file>