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1ECF-9FCC-4FD9-A435-9730235BA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0D9E-A5C8-410F-80E7-8EAFDFEF2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770F-8F0C-4253-8295-045D6F25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215-D18B-4F62-BB5E-93233604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218-4F6E-4715-8787-9DFB16A5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C08-908F-4DAA-960D-E89DE313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C78A-E3DA-4DAE-90C4-7428645A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A6DB-486D-4BEF-8EAE-B357FC08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8770-422F-4740-9F7E-6FEC758A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E190-FBF1-4EBE-B31F-4D2BF425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C66E-FA2F-4F87-9D3A-5FD95F2D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6159-BB67-4BCE-9A6E-1838A6E1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4D75-DB9E-4AE2-9B78-FDC96F5B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7D7-E559-41E4-92F4-86FB69E2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EDF2-7827-425D-B38B-0297546E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79E9-29E4-471E-97C7-01F047B8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6FC2-F095-4922-9693-22F3D14A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A99B-AFC9-4B38-B009-B4DD6682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AAF5-15A9-47D8-AE53-29EC08F0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97E48-BCCC-4C3C-88D0-CD089074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77C81-3ECB-469A-A848-66C4E295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18AE7-AE8B-4B51-A0E8-85EA1575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9393-C6F8-43A2-A634-53ABD92B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E497F-76CF-4FC3-BD7B-585A3E55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FAA-A8D7-4BC6-B4E9-5E4A1937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B8D06-D314-4EEB-9D7E-3D88AA80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C365-2285-42BA-9BE0-C4C96D31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A3D3F-B817-4EF8-96DA-61F33A70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05F0F-8BFF-4292-B39C-FB0FB9B7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AD8A5-52B3-44B6-AFDD-027AD909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40364-3209-4472-8B71-4E88BD6E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68E40-5DCB-40E8-A5CE-CD42B148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0C9E1-0589-4E77-8DED-1ADBB07F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78EE4-5982-43B5-BD53-092A9297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6ED2A-D602-49E1-9ABF-F8A2D9E1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4B8-5E64-4059-9D06-341CB8E7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71FFF-1073-45A0-8D4B-5C44CD21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5633-600F-4D96-9FB3-5A980A5B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33773-DC78-4FBB-9920-B97A7AEA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1FBD3-146E-4802-BE3D-EA5199DB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8EF8D-FDB5-4FF6-A56C-89A8FCC1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64861-6549-4373-874E-20AD2D91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6D37-0140-452C-8484-66965AE9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8B8E5-F08F-4919-89C3-4A7D765B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90C8C-D8B3-4E35-8C55-2D061D87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DF0-FAF5-4A91-8265-45E8EDB7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F28-E69D-4127-A631-584EB0C3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19B-5DB9-4EE9-83A8-0692F95D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5F9-5B5B-4D63-A1C0-653F0FE5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B44-AA64-4ECA-BFAE-0B46F7DA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E88A-C805-426D-BF1C-F0627C2FD4D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7B9C-9552-41AA-898C-835CC1B66F3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0758-19D6-4A57-A4F6-6F3894D4913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8A9D-4DE7-404D-809E-954BDAC0171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324000" y="2030400"/>
            <a:ext cx="6924600" cy="49006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228600" y="4572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Food and Leis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 Ke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pping (men), Quilting (women), Corn Husking (me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.     Vegetable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ssibilities… salted, smoked, or pickl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33720" y="1600200"/>
            <a:ext cx="487656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0" lang="en-US" sz="7200" spc="-1" strike="noStrike">
                <a:solidFill>
                  <a:srgbClr val="04617b"/>
                </a:solidFill>
                <a:latin typeface="Calibri"/>
              </a:rPr>
              <a:t>Leisure 4.11</a:t>
            </a:r>
            <a:br>
              <a:rPr sz="4500"/>
            </a:br>
            <a:br>
              <a:rPr sz="4500"/>
            </a:b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ees(Contests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y had many bees, or as we know it contes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main bees were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wood chopping (me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quilting (wome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corn husking (me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ermans introduced barn rais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neighbors joined together to build a house or barn frame in one da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while the men were building, the women were cooking a fea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ys and Ga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toys the children played with we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do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marb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p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games the children played we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a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blind mans bluff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stoolball (cricke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coasting (sledding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ult Spor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990360"/>
            <a:ext cx="4648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Bowling green (bowl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billiards (poo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fox hun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card play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horse rac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cockfigh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bull bai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catching a greased pi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4343400" y="1143000"/>
            <a:ext cx="419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climbing a greased p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foot 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wrest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ance con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http://www.healthcompass.co.uk/images/healthy%20food%20for%20pregnancy%20page.jpg"/>
          <p:cNvPicPr/>
          <p:nvPr/>
        </p:nvPicPr>
        <p:blipFill>
          <a:blip r:embed="rId1"/>
          <a:stretch/>
        </p:blipFill>
        <p:spPr>
          <a:xfrm>
            <a:off x="2819520" y="4861080"/>
            <a:ext cx="2666880" cy="1996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aaf2"/>
                </a:solidFill>
                <a:latin typeface="Calibri"/>
              </a:rPr>
              <a:t>Food 4.1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Indians traded with them first. Then they taught them how to cook and grow cor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Corn was a major part of their di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-women pounded it for hou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The colonists hunted wild deer, rabbits, and bir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- to preserve meat, it was salted, smoked, or pick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- they used spices to disguise the rotten me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od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pple pie was one of the colonists favorite foo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children picked huckleberries, blueberries, blackberries, and strawberr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hey had more peaches than they could ea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hey thought vegetables were unhealthy, especially when eaten raw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hey still respected and ate pumpkins, squash, beans, peas, and sweet potatoes that were introduced to them by the nativ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hey grew parsnips, turnips, carrots, and onions, and made a mushy stew with them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zy Leisure Quiz!!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. List three contests that the colonists had, and who could participate in th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. Which is not a toy the children played with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.) tops  B.) yo-yos  C.) dolls  D.) marb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 True or False?  The adults hunted cow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4. True or False? Women helped men build bar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5. Did people climb 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.) water tower B.)  pole C.) tre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od Facts Quiz!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6. What was one of the main foods in their diet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7. What food did the colonists think were unhealthy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.) pig meat B.) fruit C.) Vegetable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8. What did they not grow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.)parsnips B.)turnips C.)carrots D.)onion E.)radishes.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9. What was their favorite pie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. Name one way they preserve meat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3:01:05Z</dcterms:created>
  <dc:creator>Student</dc:creator>
  <dc:description/>
  <dc:language>en-US</dc:language>
  <cp:lastModifiedBy>Student</cp:lastModifiedBy>
  <dcterms:modified xsi:type="dcterms:W3CDTF">2010-10-04T13:44:04Z</dcterms:modified>
  <cp:revision>11</cp:revision>
  <dc:subject/>
  <dc:title>Leisure 4.11</dc:title>
</cp:coreProperties>
</file>