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8DD3-5CF2-46FB-AC33-9FC47C8C57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2409-AE8D-4196-A974-B5B2428BF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99C-F171-4E6E-8408-BF634782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946F-8F12-43A0-9C34-6573E2E3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97DE-B8A9-4E76-8215-166BF32C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05F8-D29B-4269-B705-87075D33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5044-6500-4B70-AC86-A9775C90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A586-8A48-40F9-8F3B-EEC5A72F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305B-09E1-4BF7-AECE-0741D3C9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B5AB-0238-47AD-984C-755CA255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1FED-0409-48B0-BEE6-050BEF97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5259-0EB2-4B5A-81E0-ACA879F3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17BB-99E6-4408-8A4A-40EE3DA1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C3C-DBA0-4618-A856-41832E5B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5225-8C28-48F2-B834-2C1EC941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489D-5F2A-4CBD-871C-0D70EC6B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6E38-F020-4AAC-841F-574724EE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C196-AA47-4411-965A-AC27A550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975F-0301-436F-8C9E-76771491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E6DF3-F814-423D-8080-C7A52F16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B6893-A841-418F-8314-FAEFC0B1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D3E2-C444-4ED3-916D-C27F57E4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95AF9-B393-41A7-8337-6B891F35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A9572-30C3-4EEF-A800-0DDA13AA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5D6-9851-445B-B590-FE129350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70254-A0FC-49E8-810D-6587A013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3C6DE-CF7C-49D2-9B54-18BA0064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1B068-EF7C-446E-B23B-935F44A9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7A31B-450A-44B5-9598-9F08F0D3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B370F-6697-46F8-B629-A2C1DD20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EA2A5-A08C-4AA9-B193-26C464D3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15849-9963-4C82-B03F-2F852F14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525BF-6BD6-4832-8BA8-B41CC7BE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A42FB-130B-4D9A-878E-C98987B3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064ED-BBD4-4F77-8857-B3FCD0C9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4073-4558-4670-837B-D98CDB07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F7F08-F47C-49A4-81F1-BF25EC63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92640-BC8E-486D-885C-9AE46F2D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B2BD3-0B7E-462B-9448-B44DA72B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ED722-C8FB-44D5-ABCC-9CAC7D29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B6CE0-124B-4102-9EE9-260B8C2F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AEE63-4204-4C0A-9EEF-2D868483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D2155-A99F-4F76-AD07-C48CBAA6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00D5A-D033-4090-B579-CBADF7B1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77583-BD1C-41B3-BC0C-F8667279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56F2-7AD2-44DE-B020-4F0D5715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05A-D6BE-42C4-B84A-3D9BD5B5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7C53-1BB0-4070-AC90-28FB717A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60F-1D94-411A-9395-C3D1E6E1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56B-9747-4CD6-AEB8-00DC84F4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D47A-6349-4E27-BCCB-E5F495A302B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64A7-6728-4A52-A672-863F701A81B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ED8F-4B01-46E9-B2FA-D2167E0D79B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8FCE-4AC7-4664-9992-815C85C73C7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324000" y="2030400"/>
            <a:ext cx="6924600" cy="49006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228600" y="4572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Food and Leis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 Ke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pping (men), Quilting (women), Corn Husking (me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r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.     Vegetable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p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ssibilities… salted, smoked, or pickl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33720" y="1600200"/>
            <a:ext cx="487656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0" lang="en-US" sz="7200" spc="-1" strike="noStrike">
                <a:solidFill>
                  <a:srgbClr val="04617b"/>
                </a:solidFill>
                <a:latin typeface="Calibri"/>
              </a:rPr>
              <a:t>Leisure 4.11</a:t>
            </a:r>
            <a:br>
              <a:rPr sz="4500"/>
            </a:br>
            <a:br>
              <a:rPr sz="4500"/>
            </a:b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ees(Contests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y had many bees, or as we know it contes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main bees were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wood chopping (me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quilting (wome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corn husking (me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ermans introduced barn rais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neighbors joined together to build a house or barn frame in one da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while the men were building, the women were cooking a feas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ys and Gam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toys the children played with we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do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marb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p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games the children played we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a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blind mans bluff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stoolball (cricke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coasting (sledding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dult Spor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990360"/>
            <a:ext cx="4648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Bowling green (bowling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billiards (poo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fox hun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card play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horse rac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cockfigh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bull bai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catching a greased pi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4343400" y="1143000"/>
            <a:ext cx="4191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climbing a greased p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foot r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wrest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dance con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http://www.healthcompass.co.uk/images/healthy%20food%20for%20pregnancy%20page.jpg"/>
          <p:cNvPicPr/>
          <p:nvPr/>
        </p:nvPicPr>
        <p:blipFill>
          <a:blip r:embed="rId1"/>
          <a:stretch/>
        </p:blipFill>
        <p:spPr>
          <a:xfrm>
            <a:off x="2819520" y="4861080"/>
            <a:ext cx="2666880" cy="1996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aaf2"/>
                </a:solidFill>
                <a:latin typeface="Calibri"/>
              </a:rPr>
              <a:t>Food 4.1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Indians traded with them first. Then they taught them how to cook and grow cor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Corn was a major part of their di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-women pounded it for hou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The colonists hunted wild deer, rabbits, and bir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- to preserve meat, it was salted, smoked, or pickl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4fceff"/>
                </a:solidFill>
                <a:latin typeface="Constantia"/>
              </a:rPr>
              <a:t>- they used spices to disguise the rotten me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od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pple pie was one of the colonists favorite foo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children picked huckleberries, blueberries, blackberries, and strawberri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hey had more peaches than they could ea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hey thought vegetables were unhealthy, especially when eaten raw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hey still respected and ate pumpkins, squash, beans, peas, and sweet potatoes that were introduced to them by the nativ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hey grew parsnips, turnips, carrots, and onions, and made a mushy stew with them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azy Leisure Quiz!!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. List three contests that the colonists had, and who could participate in the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. Which is not a toy the children played with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.) tops  B.) yo-yos  C.) dolls  D.) marb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. True or False?  The adults hunted cow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4. True or False? Women helped men build bar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5. Did people climb 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.) water tower B.)  pole C.) tre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od Facts Quiz!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6. What was one of the main foods in their diet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7. What food did the colonists think were unhealthy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.) pig meat B.) fruit C.) Vegetable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8. What did they not grow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.)parsnips B.)turnips C.)carrots D.)onion E.)radishes.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9. What was their favorite pie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. Name one way they preserve meat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3:01:05Z</dcterms:created>
  <dc:creator>Student</dc:creator>
  <dc:description/>
  <dc:language>en-US</dc:language>
  <cp:lastModifiedBy>Student</cp:lastModifiedBy>
  <dcterms:modified xsi:type="dcterms:W3CDTF">2010-10-04T13:44:04Z</dcterms:modified>
  <cp:revision>11</cp:revision>
  <dc:subject/>
  <dc:title>Leisure 4.11</dc:title>
</cp:coreProperties>
</file>